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93F-C92A-40F8-A10D-00884603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F6B-0C8C-4899-8048-2490FB2D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739-4B51-4165-865E-A5F01404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69B-7901-4F61-B409-013346CC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7D9-43FA-4C67-8D6F-F64CD4F4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371-0ABD-4FEC-BAF0-2A87CEAD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A8A-18FD-4D4C-A773-34A940C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A8E-3872-4E9C-8304-9E29FA41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45F-20A0-4CF6-9F81-B6C564A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D8D-1E90-48D2-9841-4D2238F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030-849E-496B-BA16-F324C2C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C7F-A7D1-4AB4-9DAB-AFD59E0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173-E7CD-48D9-B4FC-E8A938570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900000" y="836640"/>
            <a:ext cx="7775640" cy="2736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ль план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само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2"/>
          </p:cNvPr>
          <p:cNvSpPr/>
          <p:nvPr/>
        </p:nvSpPr>
        <p:spPr>
          <a:xfrm>
            <a:off x="3132000" y="5877000"/>
            <a:ext cx="302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. Павл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712040" y="4320000"/>
            <a:ext cx="419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готовила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ОУ СОШ № 10 ст.Павл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менько С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деятельности, составляющие процесс самообразования социального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изучение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систематический просмотр определенных телепере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конкретных педагогических периодических из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методической и педагогиче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семинаров, конференций, занятий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дискуссии, совещания, обмен опытом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систематическое прохождение курсов повышения квалиф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роведение открытых занятий для анализа со стороны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выставок и экскур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общение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ведение здорового образа жизни, занятие спортом, физ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5f9e7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циальный педагог определяет для себя тему самообразовательной деятельности, затем ставит цель и задачи самообразования, и в письменном виде составляет индивидуальный план – что и в какие сроки необходимо освоить, выполнить,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ть индивидуальные планы самообразования можно разными 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MCj03013080000[1]"/>
          <p:cNvPicPr/>
          <p:nvPr/>
        </p:nvPicPr>
        <p:blipFill>
          <a:blip r:embed="rId1"/>
          <a:stretch/>
        </p:blipFill>
        <p:spPr>
          <a:xfrm>
            <a:off x="7524720" y="4869000"/>
            <a:ext cx="12844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работка индивидуального плана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анализ деятельности, из которой вытекает проблема, стоящая перед социальным педагогом; либо желание изучить новые 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 и обоснование индивидуальной темы самообразования, её связь с целями и задачами социальной педагогики, планируем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полагаемый период работы 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вопросы, намечаемые для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тература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й опыт предполагается из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.Творческое сотрудничество по теме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. Практические выходы, в т.ч. доклады, мастер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. Изучение передов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. Когда и где выступал с обобщением собств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. Выводы по окончани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9e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е «само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хнология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рианты написания индивидуальн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b"/>
            </a:gs>
            <a:gs pos="50000">
              <a:srgbClr val="bbe0e3"/>
            </a:gs>
            <a:gs pos="100000">
              <a:srgbClr val="f6fb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Сам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повышения педагогического мастерства, многокомпонентная личностно, профессионально и общественно значимая самостоятельная познавательная деятельность социального педагога, включающая в себя общеобразовательное, психолого-педагогическое и методическое сам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сс сознательной самостоятельной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имул как для повышения профессионального мастерства, так и для развития 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олжно сводится к бумаготворчеству, оформлению красочных стендов и па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e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аптивный - характерен для начинающего социального педагога. Его  целью является адаптация к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блемно-поисковый -качественно новый этап самообразо-вательной деятельности. На этом этапе могут быть найдены эффективные приемы работы, оригина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новационный - предполагает высокую степень развития соответствующих умений. На этом этапе социальный педагог создает социально-значимый продукт деятельности, обладающий практической новизной. Фактор полной свободы выбора, полной самостоятельности накладывает на самообразование своеобразный отпечаток. Этот выбор не каждому дается, он требует не только постановки цели, но и труда, настойчивости в ее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самообразования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ширение общепедагогических и психологичес-ких знаний с целью совершенствования приёмов и методов работы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глубление знаний нормативно-правовых актов, а также педагогического мастерства по разным метод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владение достижениями социально-педагогичес-кой науки, передовой педагогической прак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ышение общекультурного уровня 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ём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бязатель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добровольное задание самому себе осознанных целей и задач самосовершенствования, решение сформировать у себя те или и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тче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ретроспективный взгляд на пройденный за определенное время пу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контро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систематическая фиксация своего состояния и поведения с целью предотвращения нежелательных последств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осмысление собственной деятельности и поведен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выявление причин успехов и неуд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ступая к работе по самообразованию, социальный педагог должен иметь данные анализа своей работы за определенный период, объективную их оценку и рекомендации коллег по улучшению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 социального педагога для перспективного планирования само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разовательно-воспитатель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беспечение целенаправленного педагогического влияния на поведение и деятельность детей и взрослых; содействие всех социальных институтов, учреждений физической культуры и спорта, средства мас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гностиче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постановка “социального диагноза”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тор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рганизация общественно-ценной деятельности детей и взрослых, педагогов и волонтеров в решении задач социально-педагогической помощи, поддержки воспитания и развития реализации планов и програ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ностическая и экспер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участие в программировании, прогнозировании, проектировании процесса социального развития конкретного микросоциума, в деятельности различных институтов по социальной работ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ционно-коммуникативн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хранно-защи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использование имеющегося арсенала правовых норм для защиты прав и интересов личности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редническ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осуществление связи в интересах ребенка между семьей, образовательным учреждением и ближайшим окружением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ли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Diagram 4"/>
          <p:cNvGrpSpPr/>
          <p:nvPr/>
        </p:nvGrpSpPr>
        <p:grpSpPr>
          <a:xfrm>
            <a:off x="2507400" y="1268280"/>
            <a:ext cx="4586040" cy="4856760"/>
            <a:chOff x="2507400" y="1268280"/>
            <a:chExt cx="4586040" cy="4856760"/>
          </a:xfrm>
        </p:grpSpPr>
        <p:sp>
          <p:nvSpPr>
            <p:cNvPr id="58" name="_s1028"/>
            <p:cNvSpPr/>
            <p:nvPr/>
          </p:nvSpPr>
          <p:spPr>
            <a:xfrm flipH="1" flipV="1">
              <a:off x="398988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010680" y="180144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вет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flipH="1">
              <a:off x="365400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2507400" y="3089880"/>
              <a:ext cx="114624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спе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 flipH="1">
              <a:off x="398988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011400" y="437832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р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4800600" y="4302720"/>
              <a:ext cx="0" cy="6076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4228200" y="4911120"/>
              <a:ext cx="1145880" cy="1213920"/>
            </a:xfrm>
            <a:prstGeom prst="ellipse">
              <a:avLst/>
            </a:pr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щест-вен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520524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443920" y="4377240"/>
              <a:ext cx="1146240" cy="121392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-суль-та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537264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5947560" y="308952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вок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 flipV="1">
              <a:off x="520524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5443200" y="1801440"/>
              <a:ext cx="114588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ред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2"/>
            <p:cNvSpPr/>
            <p:nvPr/>
          </p:nvSpPr>
          <p:spPr>
            <a:xfrm flipV="1">
              <a:off x="4800600" y="2481840"/>
              <a:ext cx="0" cy="6073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3"/>
            <p:cNvSpPr/>
            <p:nvPr/>
          </p:nvSpPr>
          <p:spPr>
            <a:xfrm>
              <a:off x="4227480" y="126828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мощ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4"/>
            <p:cNvSpPr/>
            <p:nvPr/>
          </p:nvSpPr>
          <p:spPr>
            <a:xfrm>
              <a:off x="4227480" y="3089880"/>
              <a:ext cx="1146240" cy="1213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оци-аль-ный педаг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54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5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7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8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84" name="_s2061"/>
            <p:cNvCxnSpPr>
              <a:stCxn id="85" idx="0"/>
              <a:endCxn id="86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2"/>
            <p:cNvCxnSpPr>
              <a:stCxn id="88" idx="0"/>
              <a:endCxn id="86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2064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6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67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00:30Z</dcterms:created>
  <dc:creator>Student</dc:creator>
  <dc:description/>
  <dc:language>en-US</dc:language>
  <cp:lastModifiedBy>evroset</cp:lastModifiedBy>
  <dcterms:modified xsi:type="dcterms:W3CDTF">2018-03-14T16:13:19Z</dcterms:modified>
  <cp:revision>26</cp:revision>
  <dc:subject/>
  <dc:title>Слайд 1</dc:title>
</cp:coreProperties>
</file>